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801600" cy="96012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90F-D680-4304-910E-B862F153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B51-842B-40A8-9293-3FA59041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2D2-254C-4FE4-BB8C-70798518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989-FDC7-4EDB-8D3F-72539267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42B-0749-48B5-8AD5-B5C630CF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12E-6B17-46DD-BE78-1CDEFF88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4DB-A921-4038-B48A-6652E101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01C-A569-4404-B037-74DFE616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560-E0B9-4A49-BDF1-11B66BE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23D-2442-4170-B117-B417657E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FCD-6DBF-44A0-A250-DF0824B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F74-DE29-4DE9-BAA7-C67A36C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477720" indent="-4777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8240" indent="-3985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75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8200" indent="-3175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8200" indent="-3175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8200" indent="-3175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06C8A-2835-487B-A576-C344A1448BC9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15.jpeg"/><Relationship Id="rId9" Type="http://schemas.openxmlformats.org/officeDocument/2006/relationships/image" Target="../media/image19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357960" y="76071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62040" y="162000"/>
            <a:ext cx="9879120" cy="9094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7"/>
          <p:cNvSpPr/>
          <p:nvPr/>
        </p:nvSpPr>
        <p:spPr>
          <a:xfrm>
            <a:off x="1287360" y="552600"/>
            <a:ext cx="10685520" cy="91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1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</a:t>
            </a:r>
            <a:r>
              <a:rPr b="0" lang="uk-UA" sz="1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нішнє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1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</a:t>
            </a:r>
            <a:r>
              <a:rPr b="0" lang="uk-UA" sz="1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алежне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1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</a:t>
            </a:r>
            <a:r>
              <a:rPr b="0" lang="uk-UA" sz="1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ювання </a:t>
            </a:r>
            <a:r>
              <a:rPr b="0" lang="uk-UA" sz="1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014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logo"/>
          <p:cNvPicPr/>
          <p:nvPr/>
        </p:nvPicPr>
        <p:blipFill>
          <a:blip r:embed="rId2"/>
          <a:stretch/>
        </p:blipFill>
        <p:spPr>
          <a:xfrm>
            <a:off x="0" y="0"/>
            <a:ext cx="97308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693880" y="142920"/>
            <a:ext cx="7734240" cy="933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Rectangle 5"/>
          <p:cNvSpPr/>
          <p:nvPr/>
        </p:nvSpPr>
        <p:spPr>
          <a:xfrm>
            <a:off x="2655720" y="192240"/>
            <a:ext cx="2054520" cy="100476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693880" y="5305320"/>
            <a:ext cx="4008600" cy="53028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24280" y="8985240"/>
            <a:ext cx="1371600" cy="53172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248440" y="8967960"/>
            <a:ext cx="5078160" cy="6332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989600" y="264960"/>
            <a:ext cx="40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!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та та номер видачі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63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165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0000" y="384120"/>
            <a:ext cx="10101240" cy="1192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ЕРЕЄСТРАЦІЯ (до 19.03.2014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2728800" y="4800600"/>
            <a:ext cx="9779040" cy="362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marL="479520" indent="-47952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і відмови у реєстрації (за рішенн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ної комісії – подання не всіх докумен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ежне оформлення комплекту документів тощ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повторно пройти реєстрацію - надісл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реєстраційних документів, усунув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, що стали підставою для від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2671920" y="1878120"/>
            <a:ext cx="9778680" cy="26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і внесення змін до реєстраційних да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повторно пройти реєстрацію - надісл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реєстраційних документів і раніш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аний Сертифік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71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173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0"/>
          <p:cNvSpPr/>
          <p:nvPr/>
        </p:nvSpPr>
        <p:spPr>
          <a:xfrm>
            <a:off x="2671920" y="968400"/>
            <a:ext cx="9778680" cy="279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ctr">
            <a:noAutofit/>
          </a:bodyPr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і втрати або пошкодження Сертифіка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оформити його дублікат у ХРЦОЯО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1 квітня 2014 рок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2671920" y="4498920"/>
            <a:ext cx="9864720" cy="341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ctr">
            <a:no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і відмови від проходження ЗНО необхідно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слати отриманий Сертифікат та відповідну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у про відмову до ХРЦОЯ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78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180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871720" y="1271520"/>
            <a:ext cx="9475920" cy="585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3"/>
          <p:cNvSpPr/>
          <p:nvPr/>
        </p:nvSpPr>
        <p:spPr>
          <a:xfrm>
            <a:off x="7480440" y="2131920"/>
            <a:ext cx="2133360" cy="3794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213920" y="2157480"/>
            <a:ext cx="2133720" cy="3808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86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188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871720" y="1171440"/>
            <a:ext cx="9578880" cy="65786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92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194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4724" t="11813" r="2569" b="6460"/>
          <a:stretch/>
        </p:blipFill>
        <p:spPr>
          <a:xfrm>
            <a:off x="4313160" y="2928960"/>
            <a:ext cx="8272440" cy="64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3543" t="11075" r="1949" b="5500"/>
          <a:stretch/>
        </p:blipFill>
        <p:spPr>
          <a:xfrm>
            <a:off x="2440080" y="190440"/>
            <a:ext cx="8055000" cy="56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99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  <a:ea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  <a:ea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  <a:ea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201" name="Picture 3" descr="logo"/>
              <p:cNvPicPr/>
              <p:nvPr/>
            </p:nvPicPr>
            <p:blipFill>
              <a:blip r:embed="rId3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68600" y="0"/>
            <a:ext cx="10383840" cy="14731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СТОРІН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2584440" y="1631880"/>
            <a:ext cx="9779040" cy="27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ctr">
            <a:noAutofit/>
          </a:bodyPr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юється на сайті УЦОЯ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закінч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єстр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здійснюється за номером Сертифіката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-кодом, указаним у н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800440" y="4800600"/>
            <a:ext cx="9261360" cy="41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6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207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209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72960" y="768240"/>
            <a:ext cx="9728280" cy="9064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СТОРІН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20"/>
          <p:cNvSpPr/>
          <p:nvPr/>
        </p:nvSpPr>
        <p:spPr>
          <a:xfrm>
            <a:off x="2584440" y="1560600"/>
            <a:ext cx="9390240" cy="666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ctr">
            <a:noAutofit/>
          </a:bodyPr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рінці розміщується</a:t>
            </a:r>
            <a:r>
              <a:rPr b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 щодо реєстраційних даних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ий бюлетен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дений мовою, вибраною під час реєстрації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-перепустка із зазначенням місця 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проходження ЗНО, яку можна  роздрукува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картка із результатами ЗНО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необхідно роздрукува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214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21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68600" y="0"/>
            <a:ext cx="10383840" cy="14731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СТОРІН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771640" y="1171440"/>
            <a:ext cx="5442120" cy="740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396200" y="2077920"/>
            <a:ext cx="5056200" cy="725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1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222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224" name="Picture 3" descr="logo"/>
              <p:cNvPicPr/>
              <p:nvPr/>
            </p:nvPicPr>
            <p:blipFill>
              <a:blip r:embed="rId3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855720" y="2784600"/>
            <a:ext cx="23176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AutoShape 20"/>
          <p:cNvGrpSpPr/>
          <p:nvPr/>
        </p:nvGrpSpPr>
        <p:grpSpPr>
          <a:xfrm>
            <a:off x="914400" y="2266920"/>
            <a:ext cx="11337840" cy="3932280"/>
            <a:chOff x="914400" y="2266920"/>
            <a:chExt cx="11337840" cy="3932280"/>
          </a:xfrm>
        </p:grpSpPr>
        <p:pic>
          <p:nvPicPr>
            <p:cNvPr id="228" name="AutoShape 20" descr=""/>
            <p:cNvPicPr/>
            <p:nvPr/>
          </p:nvPicPr>
          <p:blipFill>
            <a:blip r:embed="rId1"/>
            <a:stretch/>
          </p:blipFill>
          <p:spPr>
            <a:xfrm>
              <a:off x="914400" y="2266920"/>
              <a:ext cx="1133784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16000" y="2540160"/>
              <a:ext cx="1086660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uk-UA" sz="8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ПРОХОДЖЕННЯ</a:t>
              </a:r>
              <a:endParaRPr b="0" lang="en-US" sz="8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8" descr="2"/>
          <p:cNvPicPr/>
          <p:nvPr/>
        </p:nvPicPr>
        <p:blipFill>
          <a:blip r:embed="rId2"/>
          <a:stretch/>
        </p:blipFill>
        <p:spPr>
          <a:xfrm>
            <a:off x="11039400" y="7321680"/>
            <a:ext cx="1452600" cy="177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logo"/>
          <p:cNvPicPr/>
          <p:nvPr/>
        </p:nvPicPr>
        <p:blipFill>
          <a:blip r:embed="rId3"/>
          <a:stretch/>
        </p:blipFill>
        <p:spPr>
          <a:xfrm>
            <a:off x="0" y="0"/>
            <a:ext cx="136224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2800" y="263520"/>
            <a:ext cx="9661320" cy="8064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ЛЕНДАР ЗНО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2014</a:t>
            </a: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68240" y="1271520"/>
            <a:ext cx="9828360" cy="7863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ння реєстраційних документів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 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20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пробного ЗНО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ЗНО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 мови (англійська, французька,         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мецька, іспанська 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мова і література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6, 06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ійська мова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6.2014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ія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ологія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6.2014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торія України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я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вітня історія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това література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6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лошення результатів ЗНО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до 08.07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624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додаткової сесії ЗНО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.07 - 11.07.2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48" name="Picture 5" descr="logo"/>
            <p:cNvPicPr/>
            <p:nvPr/>
          </p:nvPicPr>
          <p:blipFill>
            <a:blip r:embed="rId1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8440" y="-360"/>
            <a:ext cx="10211040" cy="16002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 до ПУНКТУ ТЕСТУВАНН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12800" y="2568600"/>
            <a:ext cx="9721800" cy="46814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627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допуску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0.15 – 10. 5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27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и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ік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або свідоцтво про народження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кумент, за яким відбувалась реєстраці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-перепус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6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235" name="Picture 5" descr="logo"/>
            <p:cNvPicPr/>
            <p:nvPr/>
          </p:nvPicPr>
          <p:blipFill>
            <a:blip r:embed="rId1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Рисунок 3" descr=""/>
          <p:cNvPicPr/>
          <p:nvPr/>
        </p:nvPicPr>
        <p:blipFill>
          <a:blip r:embed="rId2">
            <a:lum bright="6000"/>
          </a:blip>
          <a:stretch/>
        </p:blipFill>
        <p:spPr>
          <a:xfrm rot="21365400">
            <a:off x="10361160" y="7895880"/>
            <a:ext cx="19605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31" descr=""/>
          <p:cNvPicPr/>
          <p:nvPr/>
        </p:nvPicPr>
        <p:blipFill>
          <a:blip r:embed="rId1"/>
          <a:stretch/>
        </p:blipFill>
        <p:spPr>
          <a:xfrm>
            <a:off x="10598040" y="6529320"/>
            <a:ext cx="1841760" cy="2808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00440" y="2784600"/>
            <a:ext cx="9577440" cy="496872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ізнення до пункту тестування хоча б на хвилину позбавляє абітурієнта права складати ЗНО 2014 з відповідного предмета!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ригінала сертифіката ЗНО 2014 року та документа, за яким здійснено реєстрацію (паспорт, свідоцтво про народження), абітурієнта до пункту тестування не допустять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50720" y="4513320"/>
            <a:ext cx="9650520" cy="17604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477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77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432080" y="0"/>
            <a:ext cx="11521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ВАГ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244" name="Picture 5" descr="logo"/>
            <p:cNvPicPr/>
            <p:nvPr/>
          </p:nvPicPr>
          <p:blipFill>
            <a:blip r:embed="rId2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855720" y="2784600"/>
            <a:ext cx="23176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AutoShape 20"/>
          <p:cNvGrpSpPr/>
          <p:nvPr/>
        </p:nvGrpSpPr>
        <p:grpSpPr>
          <a:xfrm>
            <a:off x="646200" y="2292480"/>
            <a:ext cx="11337840" cy="3932280"/>
            <a:chOff x="646200" y="2292480"/>
            <a:chExt cx="11337840" cy="3932280"/>
          </a:xfrm>
        </p:grpSpPr>
        <p:pic>
          <p:nvPicPr>
            <p:cNvPr id="249" name="AutoShape 20" descr=""/>
            <p:cNvPicPr/>
            <p:nvPr/>
          </p:nvPicPr>
          <p:blipFill>
            <a:blip r:embed="rId1"/>
            <a:stretch/>
          </p:blipFill>
          <p:spPr>
            <a:xfrm>
              <a:off x="646200" y="2292480"/>
              <a:ext cx="1133784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43120" y="2567160"/>
              <a:ext cx="1086624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uk-UA" sz="8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ОТРИМАННЯ </a:t>
              </a:r>
              <a:endParaRPr b="0" lang="en-US" sz="8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uk-UA" sz="8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РЕЗУЛЬТАТІВ</a:t>
              </a:r>
              <a:endParaRPr b="0" lang="en-US" sz="8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5" descr="2"/>
          <p:cNvPicPr/>
          <p:nvPr/>
        </p:nvPicPr>
        <p:blipFill>
          <a:blip r:embed="rId2"/>
          <a:stretch/>
        </p:blipFill>
        <p:spPr>
          <a:xfrm>
            <a:off x="11039400" y="7321680"/>
            <a:ext cx="1452600" cy="1778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logo"/>
          <p:cNvPicPr/>
          <p:nvPr/>
        </p:nvPicPr>
        <p:blipFill>
          <a:blip r:embed="rId3"/>
          <a:stretch/>
        </p:blipFill>
        <p:spPr>
          <a:xfrm>
            <a:off x="0" y="0"/>
            <a:ext cx="136224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6357960" y="76071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13160" y="1246320"/>
            <a:ext cx="5769000" cy="835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Rectangle 8"/>
          <p:cNvSpPr/>
          <p:nvPr/>
        </p:nvSpPr>
        <p:spPr>
          <a:xfrm>
            <a:off x="6905520" y="3720960"/>
            <a:ext cx="1513080" cy="430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8561520" y="3720960"/>
            <a:ext cx="1439640" cy="432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icon_problem_man"/>
          <p:cNvPicPr/>
          <p:nvPr/>
        </p:nvPicPr>
        <p:blipFill>
          <a:blip r:embed="rId2"/>
          <a:stretch/>
        </p:blipFill>
        <p:spPr>
          <a:xfrm>
            <a:off x="209520" y="7391520"/>
            <a:ext cx="1766880" cy="19144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1935000" y="0"/>
            <a:ext cx="10387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5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КАР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logo"/>
          <p:cNvPicPr/>
          <p:nvPr/>
        </p:nvPicPr>
        <p:blipFill>
          <a:blip r:embed="rId3"/>
          <a:stretch/>
        </p:blipFill>
        <p:spPr>
          <a:xfrm>
            <a:off x="0" y="0"/>
            <a:ext cx="1362240" cy="13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39360" y="1920600"/>
            <a:ext cx="11882520" cy="63370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477720" indent="-47772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знайомитись інформацією на сайті ХРЦОЯО                   та УЦОЯО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Times New Roman"/>
                <a:ea typeface="SimSun"/>
              </a:rPr>
              <a:t>C</a:t>
            </a:r>
            <a:r>
              <a:rPr b="1" lang="uk-UA" sz="3700" spc="-1" strike="noStrike">
                <a:solidFill>
                  <a:srgbClr val="006600"/>
                </a:solidFill>
                <a:latin typeface="Times New Roman"/>
                <a:ea typeface="SimSun"/>
              </a:rPr>
              <a:t>айт ХРЦОЯО      </a:t>
            </a:r>
            <a:r>
              <a:rPr b="1" lang="en-US" sz="3700" spc="-1" strike="noStrike">
                <a:solidFill>
                  <a:srgbClr val="006600"/>
                </a:solidFill>
                <a:latin typeface="Times New Roman"/>
                <a:ea typeface="SimSun"/>
              </a:rPr>
              <a:t>zno-kharkiv.org.u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тести за період 2006-2013 р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тестів з усіх предмет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 algn="just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а корисна інформаці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1362240" cy="13730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1504800" y="336600"/>
            <a:ext cx="106016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комендації щодо підготовки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 ЗНО-2014:</a:t>
            </a:r>
            <a:r>
              <a:rPr b="1" lang="uk-UA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rcRect l="0" t="11038" r="0" b="15420"/>
          <a:stretch/>
        </p:blipFill>
        <p:spPr>
          <a:xfrm>
            <a:off x="279360" y="1415880"/>
            <a:ext cx="12096720" cy="7344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2008080" y="4795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600" spc="-1" strike="noStrike">
                <a:solidFill>
                  <a:srgbClr val="006600"/>
                </a:solidFill>
                <a:latin typeface="Times New Roman"/>
                <a:ea typeface="SimSun"/>
              </a:rPr>
              <a:t>Сайт ХРЦОЯО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SimSun"/>
              </a:rPr>
              <a:t>zno-kharkiv.org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"/>
          <p:cNvPicPr/>
          <p:nvPr/>
        </p:nvPicPr>
        <p:blipFill>
          <a:blip r:embed="rId2"/>
          <a:stretch/>
        </p:blipFill>
        <p:spPr>
          <a:xfrm>
            <a:off x="0" y="0"/>
            <a:ext cx="136224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2671920" y="1071720"/>
            <a:ext cx="1012968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3900" spc="-1" strike="noStrike">
                <a:solidFill>
                  <a:srgbClr val="006600"/>
                </a:solidFill>
                <a:latin typeface="Times New Roman"/>
              </a:rPr>
              <a:t>Телефон інформаційної служби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Times New Roman"/>
              </a:rPr>
              <a:t>(057) 705-07-37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3900" spc="-1" strike="noStrike">
                <a:solidFill>
                  <a:srgbClr val="006600"/>
                </a:solidFill>
                <a:latin typeface="Times New Roman"/>
              </a:rPr>
              <a:t>Електронна пошта:</a:t>
            </a:r>
            <a:r>
              <a:rPr b="1" lang="uk-UA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ffice@zno-kharkiv.org.u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3900" spc="-1" strike="noStrike">
                <a:solidFill>
                  <a:srgbClr val="006600"/>
                </a:solidFill>
                <a:latin typeface="Times New Roman"/>
              </a:rPr>
              <a:t>Сайт:</a:t>
            </a:r>
            <a:r>
              <a:rPr b="1" lang="uk-UA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www.zno-kharkiv.org.u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3900" spc="-1" strike="noStrike">
                <a:solidFill>
                  <a:srgbClr val="006600"/>
                </a:solidFill>
                <a:latin typeface="Times New Roman"/>
              </a:rPr>
              <a:t>Адреса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Times New Roman"/>
              </a:rPr>
              <a:t>майдан Свободи, 6, офіс 463, м. Харків, 6102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49" descr=""/>
          <p:cNvPicPr/>
          <p:nvPr/>
        </p:nvPicPr>
        <p:blipFill>
          <a:blip r:embed="rId1"/>
          <a:srcRect l="6040" t="54800" r="70762" b="3293"/>
          <a:stretch/>
        </p:blipFill>
        <p:spPr>
          <a:xfrm>
            <a:off x="208080" y="6024600"/>
            <a:ext cx="1744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8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269" name="Picture 5" descr="logo"/>
            <p:cNvPicPr/>
            <p:nvPr/>
          </p:nvPicPr>
          <p:blipFill>
            <a:blip r:embed="rId2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AutoShape 20"/>
          <p:cNvGrpSpPr/>
          <p:nvPr/>
        </p:nvGrpSpPr>
        <p:grpSpPr>
          <a:xfrm>
            <a:off x="3565440" y="579600"/>
            <a:ext cx="2921040" cy="1511280"/>
            <a:chOff x="3565440" y="579600"/>
            <a:chExt cx="2921040" cy="1511280"/>
          </a:xfrm>
        </p:grpSpPr>
        <p:pic>
          <p:nvPicPr>
            <p:cNvPr id="52" name="AutoShape 20" descr=""/>
            <p:cNvPicPr/>
            <p:nvPr/>
          </p:nvPicPr>
          <p:blipFill>
            <a:blip r:embed="rId1"/>
            <a:stretch/>
          </p:blipFill>
          <p:spPr>
            <a:xfrm>
              <a:off x="3565440" y="579600"/>
              <a:ext cx="29210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46440" y="735120"/>
              <a:ext cx="268596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КРАЇНСЬКА МОВ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</a:t>
              </a: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ЛІТЕРАТУ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5.06, 06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AutoShape 20"/>
          <p:cNvGrpSpPr/>
          <p:nvPr/>
        </p:nvGrpSpPr>
        <p:grpSpPr>
          <a:xfrm>
            <a:off x="237960" y="579600"/>
            <a:ext cx="3121200" cy="1511280"/>
            <a:chOff x="237960" y="579600"/>
            <a:chExt cx="3121200" cy="1511280"/>
          </a:xfrm>
        </p:grpSpPr>
        <p:pic>
          <p:nvPicPr>
            <p:cNvPr id="55" name="AutoShape 20" descr=""/>
            <p:cNvPicPr/>
            <p:nvPr/>
          </p:nvPicPr>
          <p:blipFill>
            <a:blip r:embed="rId2"/>
            <a:stretch/>
          </p:blipFill>
          <p:spPr>
            <a:xfrm>
              <a:off x="237960" y="579600"/>
              <a:ext cx="31212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18960" y="735120"/>
              <a:ext cx="288612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ОЗЕМНА</a:t>
              </a:r>
              <a:r>
                <a:rPr b="0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В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вибором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глійська, німецьк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ранцузька, іспанська</a:t>
              </a: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3.06.2014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utoShape 20"/>
          <p:cNvGrpSpPr/>
          <p:nvPr/>
        </p:nvGrpSpPr>
        <p:grpSpPr>
          <a:xfrm>
            <a:off x="3664080" y="2292480"/>
            <a:ext cx="2869920" cy="1511280"/>
            <a:chOff x="3664080" y="2292480"/>
            <a:chExt cx="2869920" cy="1511280"/>
          </a:xfrm>
        </p:grpSpPr>
        <p:pic>
          <p:nvPicPr>
            <p:cNvPr id="58" name="AutoShape 20" descr=""/>
            <p:cNvPicPr/>
            <p:nvPr/>
          </p:nvPicPr>
          <p:blipFill>
            <a:blip r:embed="rId3"/>
            <a:stretch/>
          </p:blipFill>
          <p:spPr>
            <a:xfrm>
              <a:off x="3664080" y="2292480"/>
              <a:ext cx="28699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746520" y="2448000"/>
              <a:ext cx="26352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ІОЛОГІ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AutoShape 20"/>
          <p:cNvGrpSpPr/>
          <p:nvPr/>
        </p:nvGrpSpPr>
        <p:grpSpPr>
          <a:xfrm>
            <a:off x="841320" y="2292480"/>
            <a:ext cx="2621160" cy="1511280"/>
            <a:chOff x="841320" y="2292480"/>
            <a:chExt cx="2621160" cy="1511280"/>
          </a:xfrm>
        </p:grpSpPr>
        <p:pic>
          <p:nvPicPr>
            <p:cNvPr id="61" name="AutoShape 20" descr=""/>
            <p:cNvPicPr/>
            <p:nvPr/>
          </p:nvPicPr>
          <p:blipFill>
            <a:blip r:embed="rId4"/>
            <a:stretch/>
          </p:blipFill>
          <p:spPr>
            <a:xfrm>
              <a:off x="841320" y="2292480"/>
              <a:ext cx="26211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923760" y="2448000"/>
              <a:ext cx="238464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ОГРАФІ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AutoShape 20"/>
          <p:cNvGrpSpPr/>
          <p:nvPr/>
        </p:nvGrpSpPr>
        <p:grpSpPr>
          <a:xfrm>
            <a:off x="9918720" y="579600"/>
            <a:ext cx="2614680" cy="1511280"/>
            <a:chOff x="9918720" y="579600"/>
            <a:chExt cx="2614680" cy="1511280"/>
          </a:xfrm>
        </p:grpSpPr>
        <p:pic>
          <p:nvPicPr>
            <p:cNvPr id="64" name="AutoShape 20" descr=""/>
            <p:cNvPicPr/>
            <p:nvPr/>
          </p:nvPicPr>
          <p:blipFill>
            <a:blip r:embed="rId5"/>
            <a:stretch/>
          </p:blipFill>
          <p:spPr>
            <a:xfrm>
              <a:off x="9918720" y="579600"/>
              <a:ext cx="26146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9997920" y="735120"/>
              <a:ext cx="238464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МАТИК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20"/>
          <p:cNvGrpSpPr/>
          <p:nvPr/>
        </p:nvGrpSpPr>
        <p:grpSpPr>
          <a:xfrm>
            <a:off x="9717120" y="2395440"/>
            <a:ext cx="2511360" cy="1511280"/>
            <a:chOff x="9717120" y="2395440"/>
            <a:chExt cx="2511360" cy="1511280"/>
          </a:xfrm>
        </p:grpSpPr>
        <p:pic>
          <p:nvPicPr>
            <p:cNvPr id="67" name="AutoShape 20" descr=""/>
            <p:cNvPicPr/>
            <p:nvPr/>
          </p:nvPicPr>
          <p:blipFill>
            <a:blip r:embed="rId6"/>
            <a:stretch/>
          </p:blipFill>
          <p:spPr>
            <a:xfrm>
              <a:off x="9717120" y="2395440"/>
              <a:ext cx="2511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796320" y="2550960"/>
              <a:ext cx="228132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СТОРІЯ УКРАЇН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AutoShape 20"/>
          <p:cNvGrpSpPr/>
          <p:nvPr/>
        </p:nvGrpSpPr>
        <p:grpSpPr>
          <a:xfrm>
            <a:off x="1652760" y="4211640"/>
            <a:ext cx="2919240" cy="1506600"/>
            <a:chOff x="1652760" y="4211640"/>
            <a:chExt cx="2919240" cy="1506600"/>
          </a:xfrm>
        </p:grpSpPr>
        <p:pic>
          <p:nvPicPr>
            <p:cNvPr id="70" name="AutoShape 20" descr=""/>
            <p:cNvPicPr/>
            <p:nvPr/>
          </p:nvPicPr>
          <p:blipFill>
            <a:blip r:embed="rId7"/>
            <a:stretch/>
          </p:blipFill>
          <p:spPr>
            <a:xfrm>
              <a:off x="1652760" y="4211640"/>
              <a:ext cx="291924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730520" y="4363920"/>
              <a:ext cx="26892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ІМІ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AutoShape 20"/>
          <p:cNvGrpSpPr/>
          <p:nvPr/>
        </p:nvGrpSpPr>
        <p:grpSpPr>
          <a:xfrm>
            <a:off x="6894360" y="2395440"/>
            <a:ext cx="2517840" cy="1408320"/>
            <a:chOff x="6894360" y="2395440"/>
            <a:chExt cx="2517840" cy="1408320"/>
          </a:xfrm>
        </p:grpSpPr>
        <p:pic>
          <p:nvPicPr>
            <p:cNvPr id="73" name="AutoShape 20" descr=""/>
            <p:cNvPicPr/>
            <p:nvPr/>
          </p:nvPicPr>
          <p:blipFill>
            <a:blip r:embed="rId8"/>
            <a:stretch/>
          </p:blipFill>
          <p:spPr>
            <a:xfrm>
              <a:off x="6894360" y="2395440"/>
              <a:ext cx="25178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969240" y="2546280"/>
              <a:ext cx="229536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ІЗИК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AutoShape 20"/>
          <p:cNvGrpSpPr/>
          <p:nvPr/>
        </p:nvGrpSpPr>
        <p:grpSpPr>
          <a:xfrm>
            <a:off x="6791400" y="579600"/>
            <a:ext cx="2565360" cy="1511280"/>
            <a:chOff x="6791400" y="579600"/>
            <a:chExt cx="2565360" cy="1511280"/>
          </a:xfrm>
        </p:grpSpPr>
        <p:pic>
          <p:nvPicPr>
            <p:cNvPr id="76" name="AutoShape 20" descr=""/>
            <p:cNvPicPr/>
            <p:nvPr/>
          </p:nvPicPr>
          <p:blipFill>
            <a:blip r:embed="rId9"/>
            <a:stretch/>
          </p:blipFill>
          <p:spPr>
            <a:xfrm>
              <a:off x="6791400" y="579600"/>
              <a:ext cx="2565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70600" y="735120"/>
              <a:ext cx="233388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ІЙСЬКА МОВ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AutoShape 20"/>
          <p:cNvGrpSpPr/>
          <p:nvPr/>
        </p:nvGrpSpPr>
        <p:grpSpPr>
          <a:xfrm>
            <a:off x="5078520" y="4211640"/>
            <a:ext cx="2681280" cy="1506600"/>
            <a:chOff x="5078520" y="4211640"/>
            <a:chExt cx="2681280" cy="1506600"/>
          </a:xfrm>
        </p:grpSpPr>
        <p:pic>
          <p:nvPicPr>
            <p:cNvPr id="79" name="AutoShape 20" descr=""/>
            <p:cNvPicPr/>
            <p:nvPr/>
          </p:nvPicPr>
          <p:blipFill>
            <a:blip r:embed="rId10"/>
            <a:stretch/>
          </p:blipFill>
          <p:spPr>
            <a:xfrm>
              <a:off x="5078520" y="4211640"/>
              <a:ext cx="2681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157720" y="4363920"/>
              <a:ext cx="244656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СВІТНЯ ІСТОР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20"/>
          <p:cNvGrpSpPr/>
          <p:nvPr/>
        </p:nvGrpSpPr>
        <p:grpSpPr>
          <a:xfrm>
            <a:off x="8302680" y="4316400"/>
            <a:ext cx="2871720" cy="1504800"/>
            <a:chOff x="8302680" y="4316400"/>
            <a:chExt cx="2871720" cy="1504800"/>
          </a:xfrm>
        </p:grpSpPr>
        <p:pic>
          <p:nvPicPr>
            <p:cNvPr id="82" name="AutoShape 20" descr=""/>
            <p:cNvPicPr/>
            <p:nvPr/>
          </p:nvPicPr>
          <p:blipFill>
            <a:blip r:embed="rId11"/>
            <a:stretch/>
          </p:blipFill>
          <p:spPr>
            <a:xfrm>
              <a:off x="8302680" y="4316400"/>
              <a:ext cx="287172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385120" y="4467240"/>
              <a:ext cx="26352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ІТОВА ЛІТЕРАТУР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.06.201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20"/>
          <p:cNvGrpSpPr/>
          <p:nvPr/>
        </p:nvGrpSpPr>
        <p:grpSpPr>
          <a:xfrm>
            <a:off x="1633680" y="6589800"/>
            <a:ext cx="9510480" cy="1060200"/>
            <a:chOff x="1633680" y="6589800"/>
            <a:chExt cx="9510480" cy="1060200"/>
          </a:xfrm>
        </p:grpSpPr>
        <p:pic>
          <p:nvPicPr>
            <p:cNvPr id="85" name="AutoShape 20" descr=""/>
            <p:cNvPicPr/>
            <p:nvPr/>
          </p:nvPicPr>
          <p:blipFill>
            <a:blip r:embed="rId12"/>
            <a:stretch/>
          </p:blipFill>
          <p:spPr>
            <a:xfrm>
              <a:off x="1633680" y="6589800"/>
              <a:ext cx="95104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0" y="6719760"/>
              <a:ext cx="926604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ливість складання тестів не більше як із чотирьох предметі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16" descr="2"/>
          <p:cNvPicPr/>
          <p:nvPr/>
        </p:nvPicPr>
        <p:blipFill>
          <a:blip r:embed="rId13"/>
          <a:stretch/>
        </p:blipFill>
        <p:spPr>
          <a:xfrm>
            <a:off x="11347560" y="7823160"/>
            <a:ext cx="145404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utoShape 20"/>
          <p:cNvGrpSpPr/>
          <p:nvPr/>
        </p:nvGrpSpPr>
        <p:grpSpPr>
          <a:xfrm>
            <a:off x="646200" y="281160"/>
            <a:ext cx="3925800" cy="1103040"/>
            <a:chOff x="646200" y="281160"/>
            <a:chExt cx="3925800" cy="1103040"/>
          </a:xfrm>
        </p:grpSpPr>
        <p:pic>
          <p:nvPicPr>
            <p:cNvPr id="89" name="AutoShape 20" descr=""/>
            <p:cNvPicPr/>
            <p:nvPr/>
          </p:nvPicPr>
          <p:blipFill>
            <a:blip r:embed="rId1"/>
            <a:stretch/>
          </p:blipFill>
          <p:spPr>
            <a:xfrm>
              <a:off x="646200" y="281160"/>
              <a:ext cx="392580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04880" y="414360"/>
              <a:ext cx="3735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ІОЛОГ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AutoShape 20"/>
          <p:cNvGrpSpPr/>
          <p:nvPr/>
        </p:nvGrpSpPr>
        <p:grpSpPr>
          <a:xfrm>
            <a:off x="646200" y="1390680"/>
            <a:ext cx="3925800" cy="1103400"/>
            <a:chOff x="646200" y="1390680"/>
            <a:chExt cx="3925800" cy="1103400"/>
          </a:xfrm>
        </p:grpSpPr>
        <p:pic>
          <p:nvPicPr>
            <p:cNvPr id="92" name="AutoShape 20" descr=""/>
            <p:cNvPicPr/>
            <p:nvPr/>
          </p:nvPicPr>
          <p:blipFill>
            <a:blip r:embed="rId2"/>
            <a:stretch/>
          </p:blipFill>
          <p:spPr>
            <a:xfrm>
              <a:off x="646200" y="1390680"/>
              <a:ext cx="39258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04880" y="1522440"/>
              <a:ext cx="373536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ОГРАФ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AutoShape 20"/>
          <p:cNvGrpSpPr/>
          <p:nvPr/>
        </p:nvGrpSpPr>
        <p:grpSpPr>
          <a:xfrm>
            <a:off x="646200" y="2498760"/>
            <a:ext cx="3925800" cy="1103400"/>
            <a:chOff x="646200" y="2498760"/>
            <a:chExt cx="3925800" cy="1103400"/>
          </a:xfrm>
        </p:grpSpPr>
        <p:pic>
          <p:nvPicPr>
            <p:cNvPr id="95" name="AutoShape 20" descr=""/>
            <p:cNvPicPr/>
            <p:nvPr/>
          </p:nvPicPr>
          <p:blipFill>
            <a:blip r:embed="rId3"/>
            <a:stretch/>
          </p:blipFill>
          <p:spPr>
            <a:xfrm>
              <a:off x="646200" y="2498760"/>
              <a:ext cx="39258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04880" y="2631960"/>
              <a:ext cx="3735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МАТИ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AutoShape 20"/>
          <p:cNvGrpSpPr/>
          <p:nvPr/>
        </p:nvGrpSpPr>
        <p:grpSpPr>
          <a:xfrm>
            <a:off x="646200" y="3602160"/>
            <a:ext cx="3925800" cy="1109520"/>
            <a:chOff x="646200" y="3602160"/>
            <a:chExt cx="3925800" cy="1109520"/>
          </a:xfrm>
        </p:grpSpPr>
        <p:pic>
          <p:nvPicPr>
            <p:cNvPr id="98" name="AutoShape 20" descr=""/>
            <p:cNvPicPr/>
            <p:nvPr/>
          </p:nvPicPr>
          <p:blipFill>
            <a:blip r:embed="rId4"/>
            <a:stretch/>
          </p:blipFill>
          <p:spPr>
            <a:xfrm>
              <a:off x="646200" y="3602160"/>
              <a:ext cx="39258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04880" y="3740040"/>
              <a:ext cx="37353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СТОРІЯ УКРАЇН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AutoShape 20"/>
          <p:cNvGrpSpPr/>
          <p:nvPr/>
        </p:nvGrpSpPr>
        <p:grpSpPr>
          <a:xfrm>
            <a:off x="646200" y="4718160"/>
            <a:ext cx="3925800" cy="1103040"/>
            <a:chOff x="646200" y="4718160"/>
            <a:chExt cx="3925800" cy="1103040"/>
          </a:xfrm>
        </p:grpSpPr>
        <p:pic>
          <p:nvPicPr>
            <p:cNvPr id="101" name="AutoShape 20" descr=""/>
            <p:cNvPicPr/>
            <p:nvPr/>
          </p:nvPicPr>
          <p:blipFill>
            <a:blip r:embed="rId5"/>
            <a:stretch/>
          </p:blipFill>
          <p:spPr>
            <a:xfrm>
              <a:off x="646200" y="4718160"/>
              <a:ext cx="392580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04880" y="4849920"/>
              <a:ext cx="37353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СВІТНЯ ІСТОР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AutoShape 20"/>
          <p:cNvGrpSpPr/>
          <p:nvPr/>
        </p:nvGrpSpPr>
        <p:grpSpPr>
          <a:xfrm>
            <a:off x="646200" y="5827680"/>
            <a:ext cx="3925800" cy="1103400"/>
            <a:chOff x="646200" y="5827680"/>
            <a:chExt cx="3925800" cy="1103400"/>
          </a:xfrm>
        </p:grpSpPr>
        <p:pic>
          <p:nvPicPr>
            <p:cNvPr id="104" name="AutoShape 20" descr=""/>
            <p:cNvPicPr/>
            <p:nvPr/>
          </p:nvPicPr>
          <p:blipFill>
            <a:blip r:embed="rId6"/>
            <a:stretch/>
          </p:blipFill>
          <p:spPr>
            <a:xfrm>
              <a:off x="646200" y="5827680"/>
              <a:ext cx="39258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4880" y="5959440"/>
              <a:ext cx="3735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ІЗИ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20"/>
          <p:cNvGrpSpPr/>
          <p:nvPr/>
        </p:nvGrpSpPr>
        <p:grpSpPr>
          <a:xfrm>
            <a:off x="6894360" y="249120"/>
            <a:ext cx="4133880" cy="7589880"/>
            <a:chOff x="6894360" y="249120"/>
            <a:chExt cx="4133880" cy="7589880"/>
          </a:xfrm>
        </p:grpSpPr>
        <p:pic>
          <p:nvPicPr>
            <p:cNvPr id="107" name="AutoShape 20" descr=""/>
            <p:cNvPicPr/>
            <p:nvPr/>
          </p:nvPicPr>
          <p:blipFill>
            <a:blip r:embed="rId7"/>
            <a:stretch/>
          </p:blipFill>
          <p:spPr>
            <a:xfrm>
              <a:off x="6894360" y="249120"/>
              <a:ext cx="4133880" cy="75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102440" y="533520"/>
              <a:ext cx="3641760" cy="70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клад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имськотатарську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лдовськ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ьськ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мунську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ійськ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орсь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в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5"/>
          <p:cNvSpPr/>
          <p:nvPr/>
        </p:nvSpPr>
        <p:spPr>
          <a:xfrm>
            <a:off x="5291280" y="466560"/>
            <a:ext cx="1211040" cy="7561440"/>
          </a:xfrm>
          <a:custGeom>
            <a:avLst/>
            <a:gdLst>
              <a:gd name="textAreaLeft" fmla="*/ 0 w 1211040"/>
              <a:gd name="textAreaRight" fmla="*/ 437400 w 1211040"/>
              <a:gd name="textAreaTop" fmla="*/ 196920 h 7561440"/>
              <a:gd name="textAreaBottom" fmla="*/ 7364520 h 756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7800" rIns="127800" tIns="64080" bIns="64080" anchor="ctr">
            <a:noAutofit/>
          </a:bodyPr>
          <a:p>
            <a:pPr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2"/>
          <p:cNvPicPr/>
          <p:nvPr/>
        </p:nvPicPr>
        <p:blipFill>
          <a:blip r:embed="rId8"/>
          <a:stretch/>
        </p:blipFill>
        <p:spPr>
          <a:xfrm>
            <a:off x="11347560" y="7823160"/>
            <a:ext cx="145404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11" name="AutoShape 20"/>
          <p:cNvGrpSpPr/>
          <p:nvPr/>
        </p:nvGrpSpPr>
        <p:grpSpPr>
          <a:xfrm>
            <a:off x="628560" y="6997680"/>
            <a:ext cx="3930840" cy="1103400"/>
            <a:chOff x="628560" y="6997680"/>
            <a:chExt cx="3930840" cy="1103400"/>
          </a:xfrm>
        </p:grpSpPr>
        <p:pic>
          <p:nvPicPr>
            <p:cNvPr id="112" name="AutoShape 20" descr=""/>
            <p:cNvPicPr/>
            <p:nvPr/>
          </p:nvPicPr>
          <p:blipFill>
            <a:blip r:embed="rId9"/>
            <a:stretch/>
          </p:blipFill>
          <p:spPr>
            <a:xfrm>
              <a:off x="628560" y="6997680"/>
              <a:ext cx="39308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9040" y="7132680"/>
              <a:ext cx="3735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ІМ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20"/>
          <p:cNvGrpSpPr/>
          <p:nvPr/>
        </p:nvGrpSpPr>
        <p:grpSpPr>
          <a:xfrm>
            <a:off x="646200" y="8308800"/>
            <a:ext cx="3925800" cy="1103400"/>
            <a:chOff x="646200" y="8308800"/>
            <a:chExt cx="3925800" cy="1103400"/>
          </a:xfrm>
        </p:grpSpPr>
        <p:pic>
          <p:nvPicPr>
            <p:cNvPr id="115" name="AutoShape 20" descr=""/>
            <p:cNvPicPr/>
            <p:nvPr/>
          </p:nvPicPr>
          <p:blipFill>
            <a:blip r:embed="rId10"/>
            <a:stretch/>
          </p:blipFill>
          <p:spPr>
            <a:xfrm>
              <a:off x="646200" y="8308800"/>
              <a:ext cx="39258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04880" y="8440560"/>
              <a:ext cx="373536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ІТОВА ЛІТЕРАТУ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20"/>
          <p:cNvGrpSpPr/>
          <p:nvPr/>
        </p:nvGrpSpPr>
        <p:grpSpPr>
          <a:xfrm>
            <a:off x="7077240" y="8077320"/>
            <a:ext cx="3931920" cy="1206360"/>
            <a:chOff x="7077240" y="8077320"/>
            <a:chExt cx="3931920" cy="1206360"/>
          </a:xfrm>
        </p:grpSpPr>
        <p:pic>
          <p:nvPicPr>
            <p:cNvPr id="118" name="AutoShape 20" descr=""/>
            <p:cNvPicPr/>
            <p:nvPr/>
          </p:nvPicPr>
          <p:blipFill>
            <a:blip r:embed="rId11"/>
            <a:stretch/>
          </p:blipFill>
          <p:spPr>
            <a:xfrm>
              <a:off x="7077240" y="8077320"/>
              <a:ext cx="39319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145280" y="8217000"/>
              <a:ext cx="37260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клад т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ьки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ійську мо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655720" y="1055160"/>
            <a:ext cx="9576000" cy="17290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7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6.2.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ник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подати заяву (заяви) в паперовій або в електронній формі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ільше, ніж до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’яти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щих навчальних заклад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раїни та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ільше, ніж на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ми підготовки (на 3 спеціальності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2655720" y="263520"/>
            <a:ext cx="972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3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обливості Умов прийому до ВНЗ у 2014 році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305160" y="3216240"/>
            <a:ext cx="82803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бчислення конкурсного бала вступн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1" lang="uk-UA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 балів сертифікатів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бал атеста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ві бал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124" name="Picture 5" descr="logo"/>
            <p:cNvPicPr/>
            <p:nvPr/>
          </p:nvPicPr>
          <p:blipFill>
            <a:blip r:embed="rId1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468160" y="984240"/>
            <a:ext cx="10333080" cy="8228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7.1. у конкурсному відборі для вступу на навчання подають сертифікати ЗНО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ижче 124 балі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ижче 140 балів з профільних конкурсних предме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7.2. Дослідницькі університети мають право визначати перелік конкурсних предметів з числа тих, з яких проводиться зовнішнє незалежне оцінювання; один або два з визначених конкурсних предметів визначаються профіль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наразі є 14 дослідницьких університеті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економічний університет ім. В. П. Гетьма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університет ім. Т. Г. Шевч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ий національний університет ім. І. Я. Фра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юридична академія України ім. Ярослава Мудр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«Харківський політехнічний інститут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університет ім. В. Н. Каразі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авіаційний університ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гірничий університет Украї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Києво-Могилянська академі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Львівська політехнік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Острозька академі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України «Київський політехнічний інститут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ідноукраїнський національний університет ім. Володимира Да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671920" y="-239760"/>
            <a:ext cx="97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3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обливості Умов прийому до ВНЗ у 2014 році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1"/>
          <a:srcRect l="0" t="0" r="7315" b="9329"/>
          <a:stretch/>
        </p:blipFill>
        <p:spPr>
          <a:xfrm>
            <a:off x="279360" y="5160960"/>
            <a:ext cx="20160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0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131" name="Picture 5" descr="logo"/>
            <p:cNvPicPr/>
            <p:nvPr/>
          </p:nvPicPr>
          <p:blipFill>
            <a:blip r:embed="rId2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855720" y="2784600"/>
            <a:ext cx="23176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0"/>
          <p:cNvGrpSpPr/>
          <p:nvPr/>
        </p:nvGrpSpPr>
        <p:grpSpPr>
          <a:xfrm>
            <a:off x="841320" y="2048040"/>
            <a:ext cx="11337840" cy="4431960"/>
            <a:chOff x="841320" y="2048040"/>
            <a:chExt cx="11337840" cy="4431960"/>
          </a:xfrm>
        </p:grpSpPr>
        <p:pic>
          <p:nvPicPr>
            <p:cNvPr id="136" name="AutoShape 20" descr=""/>
            <p:cNvPicPr/>
            <p:nvPr/>
          </p:nvPicPr>
          <p:blipFill>
            <a:blip r:embed="rId1"/>
            <a:stretch/>
          </p:blipFill>
          <p:spPr>
            <a:xfrm>
              <a:off x="841320" y="2048040"/>
              <a:ext cx="11337840" cy="44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068480" y="2347920"/>
              <a:ext cx="10817280" cy="39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7800" rIns="12780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uk-UA" sz="92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РЕЄСТРАЦІЯ</a:t>
              </a:r>
              <a:endParaRPr b="0" lang="en-US" sz="9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8" descr="2"/>
          <p:cNvPicPr/>
          <p:nvPr/>
        </p:nvPicPr>
        <p:blipFill>
          <a:blip r:embed="rId2"/>
          <a:stretch/>
        </p:blipFill>
        <p:spPr>
          <a:xfrm>
            <a:off x="11039400" y="7321680"/>
            <a:ext cx="1452600" cy="177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logo"/>
          <p:cNvPicPr/>
          <p:nvPr/>
        </p:nvPicPr>
        <p:blipFill>
          <a:blip r:embed="rId3"/>
          <a:stretch/>
        </p:blipFill>
        <p:spPr>
          <a:xfrm>
            <a:off x="0" y="0"/>
            <a:ext cx="97308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2771640" y="365040"/>
            <a:ext cx="102808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НКТИ РЕЄСТРАЦІЇ</a:t>
            </a:r>
            <a:r>
              <a:rPr b="0" lang="ru-RU" sz="6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073320" y="1776240"/>
            <a:ext cx="9174240" cy="9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marL="371520" indent="-371520" algn="just">
              <a:lnSpc>
                <a:spcPct val="100000"/>
              </a:lnSpc>
              <a:spcBef>
                <a:spcPts val="2438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ій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і створено 20 пунктів реєстрації на базі вищих навчальних закладів І-І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.а. (</a:t>
            </a:r>
            <a:r>
              <a:rPr b="0" i="1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унктів реєстрації та їх телефони на сайті ХРЦОЯО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100000"/>
              </a:lnSpc>
              <a:spcBef>
                <a:spcPts val="2438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и реєстрації працюють з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</a:t>
            </a:r>
            <a:r>
              <a:rPr b="1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2014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оку до </a:t>
            </a:r>
            <a:r>
              <a:rPr b="1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3.2014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ку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ієнтовний графік роботи пунктів реєстрації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ілок – п’ятниця з 9:00 до 17: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150840" y="0"/>
            <a:ext cx="2421000" cy="9601200"/>
            <a:chOff x="150840" y="0"/>
            <a:chExt cx="2421000" cy="9601200"/>
          </a:xfrm>
        </p:grpSpPr>
        <p:pic>
          <p:nvPicPr>
            <p:cNvPr id="143" name="Picture 5" descr="logo"/>
            <p:cNvPicPr/>
            <p:nvPr/>
          </p:nvPicPr>
          <p:blipFill>
            <a:blip r:embed="rId1"/>
            <a:stretch/>
          </p:blipFill>
          <p:spPr>
            <a:xfrm>
              <a:off x="250920" y="666720"/>
              <a:ext cx="1760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"/>
            <p:cNvSpPr/>
            <p:nvPr/>
          </p:nvSpPr>
          <p:spPr>
            <a:xfrm>
              <a:off x="150840" y="2482920"/>
              <a:ext cx="2421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368440" y="0"/>
              <a:ext cx="0" cy="9601200"/>
            </a:xfrm>
            <a:prstGeom prst="line">
              <a:avLst/>
            </a:prstGeom>
            <a:ln w="507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71920" y="161640"/>
            <a:ext cx="9921600" cy="716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4500" spc="-1" strike="noStrike">
                <a:solidFill>
                  <a:srgbClr val="ff3300"/>
                </a:solidFill>
                <a:latin typeface="Calibri"/>
                <a:ea typeface="Times New Roman"/>
              </a:rPr>
              <a:t> </a:t>
            </a:r>
            <a:r>
              <a:rPr b="1" lang="uk-UA" sz="4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ЄСТРАЦІЯ на ЗНО (03.01-05.03.2014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2584440" y="1055520"/>
            <a:ext cx="986616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ти комплект документ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і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відоцтва про народже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з місця навчання за визначеною форм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пію атестат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карт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зміром 3х4 см (для документ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піях написати «Згідн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ригіналом»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вити підпи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ити прізвище, ініціали та 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3"/>
          <p:cNvSpPr/>
          <p:nvPr/>
        </p:nvSpPr>
        <p:spPr>
          <a:xfrm>
            <a:off x="2771640" y="3936960"/>
            <a:ext cx="975384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и Заяву-реєстраційну картк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стійно а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ункті реєстрації)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нтажити з сайту ХРЦОЯО спеціальну програ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поля у програ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Заяву-реєстраційну кар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власноруч необхідну частину Зая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ї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фотокартки у відведені місця Зая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Контрольно-інформаційний ли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ерігається в абітурієнта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2800440" y="7464600"/>
            <a:ext cx="9779040" cy="80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слати поштою комплект документів разом і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ою-реєстраційною карткою на адресу ХР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2800440" y="8400960"/>
            <a:ext cx="9779040" cy="90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b498"/>
              </a:gs>
              <a:gs pos="100000">
                <a:srgbClr val="e1e8e1"/>
              </a:gs>
            </a:gsLst>
            <a:lin ang="8100000"/>
          </a:gradFill>
          <a:ln w="9360">
            <a:solidFill>
              <a:srgbClr val="00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ти поштою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тифікат,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єстраційну карт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ий бюлет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150840" y="264960"/>
            <a:ext cx="2420640" cy="8970480"/>
            <a:chOff x="150840" y="264960"/>
            <a:chExt cx="2420640" cy="8970480"/>
          </a:xfrm>
        </p:grpSpPr>
        <p:sp>
          <p:nvSpPr>
            <p:cNvPr id="152" name="Rectangle 2"/>
            <p:cNvSpPr/>
            <p:nvPr/>
          </p:nvSpPr>
          <p:spPr>
            <a:xfrm>
              <a:off x="150840" y="2482560"/>
              <a:ext cx="242064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b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2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2200"/>
              </a:br>
              <a:r>
                <a:rPr b="0" lang="uk-UA" sz="22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7"/>
            <p:cNvGrpSpPr/>
            <p:nvPr/>
          </p:nvGrpSpPr>
          <p:grpSpPr>
            <a:xfrm>
              <a:off x="250560" y="264960"/>
              <a:ext cx="2118240" cy="8970480"/>
              <a:chOff x="250560" y="264960"/>
              <a:chExt cx="2118240" cy="8970480"/>
            </a:xfrm>
          </p:grpSpPr>
          <p:pic>
            <p:nvPicPr>
              <p:cNvPr id="154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250560" y="667080"/>
                <a:ext cx="1760400" cy="18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Line 5"/>
              <p:cNvSpPr/>
              <p:nvPr/>
            </p:nvSpPr>
            <p:spPr>
              <a:xfrm>
                <a:off x="2368800" y="264960"/>
                <a:ext cx="0" cy="8970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2:21:28Z</dcterms:created>
  <dc:creator>Rusonovi</dc:creator>
  <dc:description/>
  <dc:language>en-US</dc:language>
  <cp:lastModifiedBy>Prime Auditor</cp:lastModifiedBy>
  <dcterms:modified xsi:type="dcterms:W3CDTF">2013-12-18T14:37:05Z</dcterms:modified>
  <cp:revision>390</cp:revision>
  <dc:subject/>
  <dc:title>Слайд 1</dc:title>
</cp:coreProperties>
</file>